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06A-1E14-4070-8984-4EA78D6C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71A-B43B-4E6F-8E3A-DDE803B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AB7-0C1B-468D-948E-D3D6279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CE4-AF76-4583-A5BF-1DE6EFDB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54F-7520-4A8A-8954-7FF3A3E3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274-5A89-4C31-A144-14944F1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BEC-D753-425B-814D-AB5728B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691-7222-471F-ADB7-860DBC4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AA5-2083-455A-800C-223FB06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FD8-7FDD-44AF-9EA7-A474B58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BEA-06BB-4A63-AEBE-328A879A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E17-BC4A-41D8-A0DB-FA9A7398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08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5520" indent="-22140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600" y="-3240"/>
            <a:ext cx="8989920" cy="398880"/>
          </a:xfrm>
          <a:prstGeom prst="rect">
            <a:avLst/>
          </a:prstGeom>
          <a:noFill/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14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章  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IIS 5.0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在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Internet/Intranet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中的应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gif193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FBD-9724-48CC-852F-870F942D28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40.xml"/><Relationship Id="rId12" Type="http://schemas.openxmlformats.org/officeDocument/2006/relationships/slide" Target="slide40.xml"/><Relationship Id="rId13" Type="http://schemas.openxmlformats.org/officeDocument/2006/relationships/slide" Target="slide40.xml"/><Relationship Id="rId14" Type="http://schemas.openxmlformats.org/officeDocument/2006/relationships/slide" Target="slide46.xml"/><Relationship Id="rId15" Type="http://schemas.openxmlformats.org/officeDocument/2006/relationships/slide" Target="slide46.xml"/><Relationship Id="rId16" Type="http://schemas.openxmlformats.org/officeDocument/2006/relationships/slide" Target="slide46.xml"/><Relationship Id="rId17" Type="http://schemas.openxmlformats.org/officeDocument/2006/relationships/slide" Target="slide51.xml"/><Relationship Id="rId18" Type="http://schemas.openxmlformats.org/officeDocument/2006/relationships/slide" Target="slide51.xml"/><Relationship Id="rId19" Type="http://schemas.openxmlformats.org/officeDocument/2006/relationships/slide" Target="slide51.xml"/><Relationship Id="rId20" Type="http://schemas.openxmlformats.org/officeDocument/2006/relationships/slide" Target="slide51.xml"/><Relationship Id="rId21" Type="http://schemas.openxmlformats.org/officeDocument/2006/relationships/slide" Target="slide55.xml"/><Relationship Id="rId22" Type="http://schemas.openxmlformats.org/officeDocument/2006/relationships/slide" Target="slide55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39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2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5.xml"/><Relationship Id="rId15" Type="http://schemas.openxmlformats.org/officeDocument/2006/relationships/slide" Target="slide45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49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3.xml"/><Relationship Id="rId6" Type="http://schemas.openxmlformats.org/officeDocument/2006/relationships/slide" Target="slide54.xml"/><Relationship Id="rId7" Type="http://schemas.openxmlformats.org/officeDocument/2006/relationships/slide" Target="slide54.xml"/><Relationship Id="rId8" Type="http://schemas.openxmlformats.org/officeDocument/2006/relationships/slide" Target="slide54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56.xml"/><Relationship Id="rId4" Type="http://schemas.openxmlformats.org/officeDocument/2006/relationships/slide" Target="slide56.xml"/><Relationship Id="rId5" Type="http://schemas.openxmlformats.org/officeDocument/2006/relationships/slide" Target="slide57.xml"/><Relationship Id="rId6" Type="http://schemas.openxmlformats.org/officeDocument/2006/relationships/slide" Target="slide5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14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章 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黑体"/>
              </a:rPr>
              <a:t>IIS 5.0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在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黑体"/>
              </a:rPr>
              <a:t>Internet/Intranet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中的应用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1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IS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概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4.2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安装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卸载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IS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4.3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WWW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服务管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14.4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FTP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14.5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SMTP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服务管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4.6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配置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IIS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其他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4.7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设置计算机属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2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安装准备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必须安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 TCP/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网络传输协议和连接实用程序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推荐安装以下的可选组件：安装域名系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、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安装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TF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区上、使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rosoft FrontPag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创建和编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页、使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rosoft Visual InterDev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创建和开发交互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程序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2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安装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 5.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件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开始”→“设置”→“控制面板”→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程序”选项，启动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程序”窗口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”按钮，启动之后出现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向导”对话框，选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双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根据需要选择所要安装的组件，单击“确定” ，执行自动安装，同时出现“正在配置组件”对话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 5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信息配置完成后，向导进入最后一步，单击“完成”按钮安装过程结束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2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卸载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 5.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组件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开始”→“设置”→“控制面板”→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程序”，启动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程序”窗口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添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”按钮，启动后出现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向导”对话框，选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”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双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择所要删除的组件，并单击“确定”按钮后进行下一步的安装操作，同时出现“正在配置组件”对话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 5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件信息配置完成后，单击“完成”按钮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卸载后保留的目录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2.4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ternet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信息管理器的基本使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”中，许多配置任务涉及更改选项卡中的设置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使用“查看”菜单可改变显示方式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管理器中，可操作的对象有以下几种。计算机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：一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虚拟目录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目录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目录下的文件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连接服务器以及启动和停止站点和服务器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384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'cd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938840" cy="347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5105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1 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信息服务”窗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39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'cd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220032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79800" y="990720"/>
            <a:ext cx="60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2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站点、目录或文件快捷菜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0984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'cd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138720" cy="258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9680" y="4419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3  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连接到计算机”对话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956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'cd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3876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5257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4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停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启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重新启动…”站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HC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N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3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WW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管理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24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3.1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新建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Web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站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4.3.2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管理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Web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站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14.3.3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WWW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服务高级属性管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14.3.4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建立虚拟服务器和虚拟目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4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3.1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新建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eb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站点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运行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管理器” 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”窗口中需添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的计算机名中选择“新建”→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”，即可打开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创建向导”窗口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在弹出的对话框中输入站点说明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在弹出的对话框中指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和端口号等信息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在弹出的对话框中添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信息所在的文件夹，在这里单击“浏览”按钮为站点选择一个主目录，并选择是否允许匿名访问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在弹出的对话框中设定对于主目录的访问权限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完成”按钮，新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完成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3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管理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eb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站点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5638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属性有以下选项卡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站点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操作员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性能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筛选器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'cd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15040" cy="4524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5280" y="5562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5  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站点”选项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527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'cd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67000" cy="4272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5334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6  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操作员”选项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'cd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488120" cy="4600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38280" y="5638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7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能”选项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'cd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88120" cy="4600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33720" y="5562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8  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AP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器”选项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52480" y="1676160"/>
            <a:ext cx="5943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主目录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此计算机上的目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另一计算机上的共享位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定向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9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计算机上的目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'cd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53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概况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2133360"/>
            <a:ext cx="5181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1.1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IS 5.0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核心组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4.1.2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IS 5.0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的主要特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rId7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'cd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4041720" cy="4143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28800" y="5334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10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另一计算机上的共享位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'cd" descr=""/>
          <p:cNvPicPr/>
          <p:nvPr/>
        </p:nvPicPr>
        <p:blipFill>
          <a:blip r:embed="rId1"/>
          <a:stretch/>
        </p:blipFill>
        <p:spPr>
          <a:xfrm>
            <a:off x="2362320" y="885960"/>
            <a:ext cx="4487760" cy="46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740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1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重定向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文档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目录安全性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HT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头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自定义错误信息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服务器扩展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'cd" descr=""/>
          <p:cNvPicPr/>
          <p:nvPr/>
        </p:nvPicPr>
        <p:blipFill>
          <a:blip r:embed="rId1"/>
          <a:stretch/>
        </p:blipFill>
        <p:spPr>
          <a:xfrm>
            <a:off x="2394000" y="914400"/>
            <a:ext cx="423684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38280" y="5486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4-12  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档”选项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'cd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72000" cy="4143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181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13  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录安全性”属性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'cd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116240" cy="4219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54100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-14 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头”选项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'cd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91120" cy="429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9680" y="54864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15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错误信息”选项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4290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'cd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041720" cy="4143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7400" y="5334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-16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服务器扩展”选项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3.3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WW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高级属性管理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个地址或多个端口对应一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站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将客户定向到多个他站点中的一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管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IM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类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HT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机标题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筛选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维护站点和资源的安全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3.4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建立虚拟服务器和虚拟目录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建立虚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多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或使用主机标题来实现虚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器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新建虚拟目录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”窗口，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中选择“新建虚拟目录”命令，出现“虚拟目录创建向导”对话框、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输入别名、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选择虚拟目录路径、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完成对目录读写权限的限制就建立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1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 5.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核心组件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N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索引服务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认证服务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4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6880" y="2057040"/>
            <a:ext cx="4724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4.1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4.4.2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建立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F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站点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14.4.3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管理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F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站点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14.4.4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虚拟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rId16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4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5640" y="1828440"/>
            <a:ext cx="5181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站点管理内容包括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安全帐号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”选项卡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目录”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 “目录安全性”选项卡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4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建立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站点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默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” 中选择“新建”→“站点”命令，打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建立向导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出现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创建向导”对话框，单击“下一步”按钮，开始输入站点相关信息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添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号（默认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下一步”按钮，设定相应的访问权限，包括“读取”和“写入”两种用户权限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击“完成”按钮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建立成功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4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管理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站点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9320" y="1904760"/>
            <a:ext cx="4953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主目录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消息配置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主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配置目录安全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验证访问策略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查看当前连接的用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4.4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虚拟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虚拟服务器和虚拟目录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布局只用一台计算机就可以提供多个站点主机，并且可以把站点内容放在其他计算机上。添加必要的存储空间而无须关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器。添加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点的过程就是创建虚拟服务器的过程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5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M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管理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5.1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SM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4.5.2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建立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SM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虚拟服务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4.5.3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管理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SM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rId12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5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M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采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协议传输邮件，采用域名服务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解析如何连接远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器发送邮件。几乎所有的电子邮件程序都具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兼容性。在默认状态下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监听位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号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上的电子邮件请求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MTP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服务在安装中创建以下六个文件夹：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932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k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u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dmai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rtTem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lbo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ut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5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建立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M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虚拟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信息服务”窗口，用右键单击“默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虚拟服务器”，从中选择“新建站点”菜单，在出现的“新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虚拟服务器向导”对话框中进行操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择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分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择默认域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完成默认域设置后，单击“完成”按钮，完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虚拟服务器的建立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1.2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 5.0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的主要特性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安全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摘要式身份验证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安全通讯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服务器网关加密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安全向导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域限制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rberos 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身份验证协议相容性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证书存储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tezz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5.3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管理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M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管理用户连接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配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SM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安全属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限制邮件流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配置传递特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添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N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记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6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配置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其他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14600" y="220932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6.1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NNTP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4.6.2  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索引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14.6.3 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Telnet</a:t>
            </a:r>
            <a:r>
              <a:rPr b="1" lang="zh-CN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服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>
            <a:hlinkClick r:id="rId9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6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NTP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248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新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N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虚拟服务服务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管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N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限制客户机连接及连接超时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安全属性设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管理客户粘贴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6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索引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90560" y="2590920"/>
            <a:ext cx="4190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配置索引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索引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6.3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lnet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服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980720"/>
            <a:ext cx="4724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启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el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el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管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访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eln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务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7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设置计算机属性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7.1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信息服务属性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4.7.2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计算机属性的服务器扩展选项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rId7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7.1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ternet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信息服务属性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4952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主属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启用带宽限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计算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IM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映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7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计算机属性的服务器扩展选项卡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性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客户端脚本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指定加何传送邮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记录创作操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人工管理权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创作需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协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允许作者上载可执行程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5920560" y="626436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可管理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新启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备份和还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进程账户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进程限制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进的自定义错误消息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配置选项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远程管理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终端服务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集中管理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52480" y="1447560"/>
            <a:ext cx="5562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可编程性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S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新功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e Server Pag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新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应用程序保护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SI 2.0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支持更多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Interne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标准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各种标准的基础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多个站点，一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布式创作与版本管理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DA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新闻和邮件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级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重新启动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压缩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4.2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安装卸载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S 5.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4.2.1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安装准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14.2.2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安装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IS 5.0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组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14.2.3  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卸载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IIS 5.0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组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14.2.4 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信息管理器的基本使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723888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33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0:12:49Z</dcterms:created>
  <dc:creator>liwu</dc:creator>
  <dc:description/>
  <dc:language>en-US</dc:language>
  <cp:lastModifiedBy>新人电脑</cp:lastModifiedBy>
  <dcterms:modified xsi:type="dcterms:W3CDTF">2002-01-25T02:52:33Z</dcterms:modified>
  <cp:revision>23</cp:revision>
  <dc:subject/>
  <dc:title>第14章  IIS 5.0在Internet/Intranet中的应用 </dc:title>
</cp:coreProperties>
</file>